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D8B-D8F7-4377-A53E-42017A2D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980-8902-4A55-9CAB-DE7F28A4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F03-6405-44B0-A292-261846B5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897-5F62-4486-8915-A26B3483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15255-2658-4AF9-91BA-D873FDE2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BBBC2-2788-4506-81C9-C945EE31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613DA-D010-4BE7-89A3-EC67CCAF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1DAEC-99FC-49EE-9A88-7D5A65FC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330ED-5EF8-4457-8E65-67A7A1B5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C5399-2F7F-485A-AEAE-902DDE52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2F8B3-7EAC-4BF7-87EE-E4C517CA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048-748C-49FD-A244-4E369160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34AA5-F9DF-4B52-A326-234B452F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5315D-C586-4A7B-8D50-6F8EA648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0E04E-3DBC-4DE9-8832-97791AE1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8844C-3B6D-465E-B51B-5F2305DE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C5616-AB83-4B57-9C9D-57292BE0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02296-6F22-4B04-944F-0C15559A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7DB27-8612-4E19-B1BF-DA6219EE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6103D-A311-48C0-9695-66F4F49E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37DF5-7E9D-4AEE-8FFC-81ACC356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C938-DBC0-40A2-BF91-ECE556D1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D08-F25F-451B-9F5E-63BC5251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35D85-8AE7-4D6E-B680-FD8E29E8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68E0B-2159-4BEE-AC54-ED4A1CD6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5715F-9DE5-4F0A-B5F4-D556B8D3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9AF0-27B3-48F7-80D3-632E1896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8E9AD-47B4-4BA0-AF5F-9D28B00D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4D29-4CFA-4416-9C45-419F36DF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E36C-3B9F-4E1E-9FF0-79DC7292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FB28F6-7A00-42ED-9693-B4D1FBBC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FB2DD-60F1-4B47-A20E-E39940A0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ECA0E0-E7F7-4900-B37E-C7AF5372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304-3D40-4D5E-8C26-BBF5A4B5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F9A5C2-82F7-49CB-9705-197783D0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0C7395-0293-4694-8D5C-92C1510A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1EFC0C-287D-40A0-818B-5E4A4C8F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872584-64F5-4D08-928F-7683F9DE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E97A73-A120-468E-BAAA-83139CF5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FC2A62-D70C-4AD5-9BBC-26742368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FCE2B-3D4A-4ECF-B706-AC10312A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0582FB-F1CA-4C22-A78C-B11FB35A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672C6-EEEB-494C-9DF8-D3FC65E1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7AF2A-F00F-40E5-83A8-1EFDA20E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0CCA-E9C5-4966-8A7B-2E5FEB93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30256C-7EC5-4F6D-8A3C-0B88C08F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9A1CC-CFF9-4FCE-B704-884A3EC5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DA732-8CF7-4310-A344-3E2EC2A5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49C89-148E-4508-AD73-A0F554C4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A79B56-319B-45D6-8B45-62665A29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1F818-6F1C-435C-B9AF-887B5F33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93DB9D-0417-4257-9D95-3119C4AC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82234-4E68-4138-B443-AF43410D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5A98BA-FE30-401C-84DF-513A412B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B44C6D-CBBE-4807-BDE4-A0B0382F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C1C-020A-4725-ABD0-11FBDD6C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B9CD0-F7F3-437E-AEF7-70EBED02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06DAB-E69F-4D62-B918-6EFAD9D5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BC54C-719B-46A2-B30F-A8B5ED42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6A669-B367-4ADF-B7DB-933B3ADD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43AD9B-D2F4-43B7-9341-31A57E45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A6BE5-5D10-4A41-9528-4A0ED4B7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01D3F6-B6A7-4811-BC1C-99049768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E95A2-45AC-4C32-A3F5-917A0946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BF9553-6D68-4F1C-98E9-F28BADCE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B7CED-6A25-4575-A29F-A1CFBEC7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6BB-A628-4FAC-AED1-417B2284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47BF4B-047D-4178-B3EF-E4BB76DB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18DE7-6348-4E9D-A9AD-D6733CE7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AF776D-7881-4A29-8A21-AEB1B2FA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584-D119-4CD6-9EC2-4C142EB5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C63-4D97-4599-B358-4153BD70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1F02-4D99-402B-8F67-E5D4AC807C1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FDEF-A952-445E-B58A-164F5081B25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498B-9744-43E5-9250-AF8B11ABD9D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C08E-1EDC-47CC-97A1-74C733DC9D6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E87C-95AE-4DDC-95CE-E66B1A861A2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4B02-8ACD-4D07-A973-4A99B5FD50A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Maggie Grim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http://www.vtaide.com/png/images/creeper2.jpg"/>
          <p:cNvPicPr/>
          <p:nvPr/>
        </p:nvPicPr>
        <p:blipFill>
          <a:blip r:embed="rId2"/>
          <a:stretch/>
        </p:blipFill>
        <p:spPr>
          <a:xfrm>
            <a:off x="609480" y="762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http://www.vtaide.com/png/images/eagle.jpg"/>
          <p:cNvPicPr/>
          <p:nvPr/>
        </p:nvPicPr>
        <p:blipFill>
          <a:blip r:embed="rId3"/>
          <a:stretch/>
        </p:blipFill>
        <p:spPr>
          <a:xfrm>
            <a:off x="2666880" y="762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http://www.vtaide.com/png/images/curlew.jpg"/>
          <p:cNvPicPr/>
          <p:nvPr/>
        </p:nvPicPr>
        <p:blipFill>
          <a:blip r:embed="rId4"/>
          <a:stretch/>
        </p:blipFill>
        <p:spPr>
          <a:xfrm>
            <a:off x="4724280" y="762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http://www.vtaide.com/png/images/spoonbill.jpg"/>
          <p:cNvPicPr/>
          <p:nvPr/>
        </p:nvPicPr>
        <p:blipFill>
          <a:blip r:embed="rId5"/>
          <a:stretch/>
        </p:blipFill>
        <p:spPr>
          <a:xfrm>
            <a:off x="6781680" y="762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http://www.vtaide.com/png/images/flamingo.jpg"/>
          <p:cNvPicPr/>
          <p:nvPr/>
        </p:nvPicPr>
        <p:blipFill>
          <a:blip r:embed="rId6"/>
          <a:stretch/>
        </p:blipFill>
        <p:spPr>
          <a:xfrm>
            <a:off x="2666880" y="2819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2" descr="http://www.vtaide.com/png/images/skimmer.jpg"/>
          <p:cNvPicPr/>
          <p:nvPr/>
        </p:nvPicPr>
        <p:blipFill>
          <a:blip r:embed="rId7"/>
          <a:stretch/>
        </p:blipFill>
        <p:spPr>
          <a:xfrm>
            <a:off x="4724280" y="2819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http://www.vtaide.com/png/images/hummingbird.jpg"/>
          <p:cNvPicPr/>
          <p:nvPr/>
        </p:nvPicPr>
        <p:blipFill>
          <a:blip r:embed="rId8"/>
          <a:stretch/>
        </p:blipFill>
        <p:spPr>
          <a:xfrm>
            <a:off x="609480" y="2819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http://www.vtaide.com/png/images/heron.jpg"/>
          <p:cNvPicPr/>
          <p:nvPr/>
        </p:nvPicPr>
        <p:blipFill>
          <a:blip r:embed="rId9"/>
          <a:stretch/>
        </p:blipFill>
        <p:spPr>
          <a:xfrm>
            <a:off x="2666880" y="4800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8" descr="http://www.vtaide.com/png/images/woodpecker.jpg"/>
          <p:cNvPicPr/>
          <p:nvPr/>
        </p:nvPicPr>
        <p:blipFill>
          <a:blip r:embed="rId10"/>
          <a:stretch/>
        </p:blipFill>
        <p:spPr>
          <a:xfrm>
            <a:off x="6781680" y="2819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0" descr="http://www.vtaide.com/png/images/cardinal.jpg"/>
          <p:cNvPicPr/>
          <p:nvPr/>
        </p:nvPicPr>
        <p:blipFill>
          <a:blip r:embed="rId11"/>
          <a:stretch/>
        </p:blipFill>
        <p:spPr>
          <a:xfrm>
            <a:off x="609480" y="4800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ttp://www.vtaide.com/png/images/merganser.jpg"/>
          <p:cNvPicPr/>
          <p:nvPr/>
        </p:nvPicPr>
        <p:blipFill>
          <a:blip r:embed="rId12"/>
          <a:stretch/>
        </p:blipFill>
        <p:spPr>
          <a:xfrm>
            <a:off x="4724280" y="4800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4" descr="http://www.vtaide.com/png/images/pelican.jpg"/>
          <p:cNvPicPr/>
          <p:nvPr/>
        </p:nvPicPr>
        <p:blipFill>
          <a:blip r:embed="rId13"/>
          <a:stretch/>
        </p:blipFill>
        <p:spPr>
          <a:xfrm>
            <a:off x="6781680" y="48006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4"/>
          <p:cNvSpPr/>
          <p:nvPr/>
        </p:nvSpPr>
        <p:spPr>
          <a:xfrm>
            <a:off x="152280" y="228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The beak has been adapted to assist the bird in its way of feed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ttp://www.vtaide.com/png/images/creeper2.jpg"/>
          <p:cNvPicPr/>
          <p:nvPr/>
        </p:nvPicPr>
        <p:blipFill>
          <a:blip r:embed="rId2"/>
          <a:stretch/>
        </p:blipFill>
        <p:spPr>
          <a:xfrm>
            <a:off x="533520" y="457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http://www.vtaide.com/png/images/hummingbird.jpg"/>
          <p:cNvPicPr/>
          <p:nvPr/>
        </p:nvPicPr>
        <p:blipFill>
          <a:blip r:embed="rId3"/>
          <a:stretch/>
        </p:blipFill>
        <p:spPr>
          <a:xfrm>
            <a:off x="533520" y="25909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0" descr="http://www.vtaide.com/png/images/cardinal.jpg"/>
          <p:cNvPicPr/>
          <p:nvPr/>
        </p:nvPicPr>
        <p:blipFill>
          <a:blip r:embed="rId4"/>
          <a:stretch/>
        </p:blipFill>
        <p:spPr>
          <a:xfrm>
            <a:off x="533520" y="47242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5"/>
          <p:cNvSpPr/>
          <p:nvPr/>
        </p:nvSpPr>
        <p:spPr>
          <a:xfrm>
            <a:off x="2895480" y="6094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n Kreeper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 bill that curved downwards used to probe under the bark of trees for insects and sp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2971800" y="28195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mmingbird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thin bill used like a straw that is stuck into flowers to sip on nec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2971800" y="49528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dinal Grosbeak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, stout conical beak used like a nutcracker to open nuts and s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http://www.vtaide.com/png/images/eagle.jpg"/>
          <p:cNvPicPr/>
          <p:nvPr/>
        </p:nvPicPr>
        <p:blipFill>
          <a:blip r:embed="rId2"/>
          <a:stretch/>
        </p:blipFill>
        <p:spPr>
          <a:xfrm>
            <a:off x="609480" y="457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http://www.vtaide.com/png/images/flamingo.jpg"/>
          <p:cNvPicPr/>
          <p:nvPr/>
        </p:nvPicPr>
        <p:blipFill>
          <a:blip r:embed="rId3"/>
          <a:stretch/>
        </p:blipFill>
        <p:spPr>
          <a:xfrm>
            <a:off x="609480" y="2514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http://www.vtaide.com/png/images/heron.jpg"/>
          <p:cNvPicPr/>
          <p:nvPr/>
        </p:nvPicPr>
        <p:blipFill>
          <a:blip r:embed="rId4"/>
          <a:stretch/>
        </p:blipFill>
        <p:spPr>
          <a:xfrm>
            <a:off x="609480" y="44956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TextBox 4"/>
          <p:cNvSpPr/>
          <p:nvPr/>
        </p:nvSpPr>
        <p:spPr>
          <a:xfrm>
            <a:off x="2895480" y="6094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gle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strong beak with hooked upper jaw for tearing fle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2971800" y="266688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amingo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down curved beak for separating mud and silt from shellfish and algae which it eats. The beak is used upside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2971800" y="472428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on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thick spear like beak, used like a spear stabbing fish, frogs, and shellfish and then lifting them out of the water before eating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6" descr="http://www.vtaide.com/png/images/curlew.jpg"/>
          <p:cNvPicPr/>
          <p:nvPr/>
        </p:nvPicPr>
        <p:blipFill>
          <a:blip r:embed="rId2"/>
          <a:stretch/>
        </p:blipFill>
        <p:spPr>
          <a:xfrm>
            <a:off x="533520" y="457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http://www.vtaide.com/png/images/skimmer.jpg"/>
          <p:cNvPicPr/>
          <p:nvPr/>
        </p:nvPicPr>
        <p:blipFill>
          <a:blip r:embed="rId3"/>
          <a:stretch/>
        </p:blipFill>
        <p:spPr>
          <a:xfrm>
            <a:off x="533520" y="25146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http://www.vtaide.com/png/images/merganser.jpg"/>
          <p:cNvPicPr/>
          <p:nvPr/>
        </p:nvPicPr>
        <p:blipFill>
          <a:blip r:embed="rId4"/>
          <a:stretch/>
        </p:blipFill>
        <p:spPr>
          <a:xfrm>
            <a:off x="533520" y="44956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2895480" y="60948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lew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slender down turned beak for probing the shoreline for worms and other invertebrates that lie buried in the sedi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2971800" y="266688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immer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 bill with lower jaw longer than the upper. Skimmers use the lower jaw to scoop up fish from the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2971800" y="47242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ck, Merganser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t sieve-like bill for catching fish and draining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8" descr="http://www.vtaide.com/png/images/spoonbill.jpg"/>
          <p:cNvPicPr/>
          <p:nvPr/>
        </p:nvPicPr>
        <p:blipFill>
          <a:blip r:embed="rId2"/>
          <a:stretch/>
        </p:blipFill>
        <p:spPr>
          <a:xfrm>
            <a:off x="609480" y="533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http://www.vtaide.com/png/images/woodpecker.jpg"/>
          <p:cNvPicPr/>
          <p:nvPr/>
        </p:nvPicPr>
        <p:blipFill>
          <a:blip r:embed="rId3"/>
          <a:stretch/>
        </p:blipFill>
        <p:spPr>
          <a:xfrm>
            <a:off x="609480" y="2590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4" descr="http://www.vtaide.com/png/images/pelican.jpg"/>
          <p:cNvPicPr/>
          <p:nvPr/>
        </p:nvPicPr>
        <p:blipFill>
          <a:blip r:embed="rId4"/>
          <a:stretch/>
        </p:blipFill>
        <p:spPr>
          <a:xfrm>
            <a:off x="609480" y="4572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88" name="TextBox 4"/>
          <p:cNvSpPr/>
          <p:nvPr/>
        </p:nvSpPr>
        <p:spPr>
          <a:xfrm>
            <a:off x="2895480" y="60948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oonbill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flat bill with a tip like a spoon, used like a shovel sweeping back and forth through shallow waters to shovel small fishes and crustaceans from the mud and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2971800" y="26668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odpecker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sel like beak, used like a drill to bore holes into trees to get to the ins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2971800" y="47242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lican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 bill with a stretchable pouch under it for holding fish caught under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Darwin’s Finche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graphicFrame>
        <p:nvGraphicFramePr>
          <p:cNvPr id="292" name="WindowsMediaPlayer1"/>
          <p:cNvGraphicFramePr/>
          <p:nvPr/>
        </p:nvGraphicFramePr>
        <p:xfrm>
          <a:off x="1225440" y="1952640"/>
          <a:ext cx="6923160" cy="379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5440" y="1952640"/>
                    <a:ext cx="6923160" cy="37908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138040" y="6019920"/>
            <a:ext cx="51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youtube.com/watch?v=l25MBq8T77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7:29:08Z</dcterms:created>
  <dc:creator>arobinson</dc:creator>
  <dc:description/>
  <dc:language>en-US</dc:language>
  <cp:lastModifiedBy> </cp:lastModifiedBy>
  <dcterms:modified xsi:type="dcterms:W3CDTF">2010-01-28T01:22:36Z</dcterms:modified>
  <cp:revision>14</cp:revision>
  <dc:subject/>
  <dc:title>Slide 1</dc:title>
</cp:coreProperties>
</file>